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19C5-D902-43A9-9B01-3BBF26BC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7C21-325A-442F-B354-19D0AB10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E76-35B9-40DA-AE6E-335D7748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BCB-9664-4B11-AABD-610FF109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A723-9BF7-4602-914F-535C22BB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1CC4-467C-41A1-9913-0D80E950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8E99-8E40-4FAD-8E22-790CE92D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810-C153-40A2-871D-822407E4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6113-86AE-4004-ABEB-F91CD58B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9AAD-3CCA-4AEC-9A0D-E91A4F0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EED9-9006-4492-99A5-9C12541B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F5E-F8BB-4AA9-9EA7-4346ECAA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9D83-F129-4E65-90A9-FBD9A599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8D4F-38EF-4CCF-9C9F-92C79F1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8277-363E-454A-A253-1811B15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4F74-6E4E-4B2B-AAAD-DABFF9C1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903-8162-41C4-AA3F-1EEE9874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EE857-1E30-47F7-AA6B-38CD8403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A3C4-77A9-45DB-9F49-92CA4C5E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14ECA-5606-4F7B-B084-DFD2002F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1938-7EF5-40E2-84B2-E7A5CD57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F4DAA-721C-4ACC-862E-74ECBE85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36E-EF23-410A-8D52-9C2F14C1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5392C-D97E-4CF0-9747-915DF4AA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3A10-3D11-4E54-B74F-F71A2FC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CDB1-8602-4596-AF03-DB6EF9E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C736-49B7-43DC-AE62-4C58E94E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7F0B-09FF-48ED-A79E-F3267B7B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C4D0-3E99-4B69-934C-A6D9740FE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E3D4-96C6-41C9-A240-EF69324C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225-0506-4690-B2DC-CD5085B8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0DF-0BE6-4DEE-B112-9B96D53A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EA0E-A346-411A-A159-573D6EBA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BDF-6145-4733-98EF-0E93554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F364-DC78-4B6C-AAB6-D752B49E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876-553C-479B-BE01-4F4342D8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D01-7F35-485D-ABB7-E882BB7CAE13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Google Shape;11;p1"/>
          <p:cNvSpPr/>
          <p:nvPr/>
        </p:nvSpPr>
        <p:spPr>
          <a:xfrm>
            <a:off x="-9360" y="5213520"/>
            <a:ext cx="838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This presentation uses a free template provided by F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www.free-power-point-templat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Google Shape;11;p1"/>
          <p:cNvSpPr/>
          <p:nvPr/>
        </p:nvSpPr>
        <p:spPr>
          <a:xfrm>
            <a:off x="-9360" y="5213520"/>
            <a:ext cx="838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This presentation uses a free template provided by F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www.free-power-point-templat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BEE-A539-43F8-881C-1770FC8BF45F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oogle Shape;11;p1"/>
          <p:cNvSpPr/>
          <p:nvPr/>
        </p:nvSpPr>
        <p:spPr>
          <a:xfrm>
            <a:off x="-9360" y="5213520"/>
            <a:ext cx="8389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This presentation uses a free template provided by F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a5a5"/>
                </a:solidFill>
                <a:latin typeface="Calibri"/>
                <a:ea typeface="Calibri"/>
              </a:rPr>
              <a:t>www.free-power-point-template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Google Shape;87;p13" descr="E:\websites\free-power-point-templates\2012\logos.png"/>
          <p:cNvPicPr/>
          <p:nvPr/>
        </p:nvPicPr>
        <p:blipFill>
          <a:blip r:embed="rId3"/>
          <a:stretch/>
        </p:blipFill>
        <p:spPr>
          <a:xfrm>
            <a:off x="3917880" y="2325600"/>
            <a:ext cx="1463760" cy="527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DAC9-DE50-462E-A8C4-957F3EFA0A02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hyperlink" Target="http://www.niets.or.th/th/catalog/view/242" TargetMode="External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สี่เหลี่ยมผืนผ้า 6" descr=""/>
          <p:cNvPicPr/>
          <p:nvPr/>
        </p:nvPicPr>
        <p:blipFill>
          <a:blip r:embed="rId1"/>
          <a:stretch/>
        </p:blipFill>
        <p:spPr>
          <a:xfrm>
            <a:off x="549360" y="165240"/>
            <a:ext cx="3120840" cy="1060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1603440"/>
            <a:ext cx="7940520" cy="10317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ffffff"/>
                </a:solidFill>
                <a:latin typeface="Calibri"/>
                <a:cs typeface="Calibri"/>
              </a:rPr>
              <a:t>การเตรียมการสอบ 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  <a:ea typeface="Calibri"/>
              </a:rPr>
              <a:t>V-NET </a:t>
            </a:r>
            <a:br>
              <a:rPr sz="5000"/>
            </a:br>
            <a:r>
              <a:rPr b="1" lang="th-TH" sz="5000" spc="-1" strike="noStrike">
                <a:solidFill>
                  <a:srgbClr val="ffffff"/>
                </a:solidFill>
                <a:latin typeface="Calibri"/>
                <a:cs typeface="Calibri"/>
              </a:rPr>
              <a:t>ปีการศึกษา ๒๕๖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สี่เหลี่ยมผืนผ้า 4" descr=""/>
          <p:cNvPicPr/>
          <p:nvPr/>
        </p:nvPicPr>
        <p:blipFill>
          <a:blip r:embed="rId2"/>
          <a:stretch/>
        </p:blipFill>
        <p:spPr>
          <a:xfrm>
            <a:off x="554040" y="92160"/>
            <a:ext cx="3110040" cy="590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3"/>
          <a:stretch/>
        </p:blipFill>
        <p:spPr>
          <a:xfrm>
            <a:off x="9360" y="-34920"/>
            <a:ext cx="3616560" cy="863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4"/>
          <a:stretch/>
        </p:blipFill>
        <p:spPr>
          <a:xfrm>
            <a:off x="30240" y="36360"/>
            <a:ext cx="701640" cy="70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2" name="สี่เหลี่ยมผืนผ้า 7" descr=""/>
          <p:cNvPicPr/>
          <p:nvPr/>
        </p:nvPicPr>
        <p:blipFill>
          <a:blip r:embed="rId5"/>
          <a:stretch/>
        </p:blipFill>
        <p:spPr>
          <a:xfrm>
            <a:off x="2139840" y="1962000"/>
            <a:ext cx="6815160" cy="293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www.niets.or.th/uploads/editor/images/V-NET/%E0%B8%9B%E0%B8%A7%E0%B8%AA2.jpg"/>
          <p:cNvPicPr/>
          <p:nvPr/>
        </p:nvPicPr>
        <p:blipFill>
          <a:blip r:embed="rId6"/>
          <a:stretch/>
        </p:blipFill>
        <p:spPr>
          <a:xfrm>
            <a:off x="7029360" y="3213000"/>
            <a:ext cx="1839960" cy="3436920"/>
          </a:xfrm>
          <a:prstGeom prst="rect">
            <a:avLst/>
          </a:prstGeom>
          <a:ln w="0">
            <a:noFill/>
          </a:ln>
        </p:spPr>
      </p:pic>
      <p:pic>
        <p:nvPicPr>
          <p:cNvPr id="134" name="รูปภาพ 1" descr=""/>
          <p:cNvPicPr/>
          <p:nvPr/>
        </p:nvPicPr>
        <p:blipFill>
          <a:blip r:embed="rId7"/>
          <a:stretch/>
        </p:blipFill>
        <p:spPr>
          <a:xfrm>
            <a:off x="5168880" y="3230640"/>
            <a:ext cx="18223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à¸£à¸¹à¸à¸ à¸²à¸à¸à¸µà¹à¹à¸à¸µà¹à¸¢à¸§à¸à¹à¸­à¸"/>
          <p:cNvPicPr/>
          <p:nvPr/>
        </p:nvPicPr>
        <p:blipFill>
          <a:blip r:embed="rId1"/>
          <a:stretch/>
        </p:blipFill>
        <p:spPr>
          <a:xfrm>
            <a:off x="6480" y="4280040"/>
            <a:ext cx="1304640" cy="1699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2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7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3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38" name="สี่เหลี่ยมผืนผ้า 3"/>
          <p:cNvGrpSpPr/>
          <p:nvPr/>
        </p:nvGrpSpPr>
        <p:grpSpPr>
          <a:xfrm>
            <a:off x="2266920" y="139680"/>
            <a:ext cx="7115040" cy="1251000"/>
            <a:chOff x="2266920" y="139680"/>
            <a:chExt cx="7115040" cy="1251000"/>
          </a:xfrm>
        </p:grpSpPr>
        <p:pic>
          <p:nvPicPr>
            <p:cNvPr id="139" name="สี่เหลี่ยมผืนผ้า 3" descr=""/>
            <p:cNvPicPr/>
            <p:nvPr/>
          </p:nvPicPr>
          <p:blipFill>
            <a:blip r:embed="rId4"/>
            <a:stretch/>
          </p:blipFill>
          <p:spPr>
            <a:xfrm>
              <a:off x="2266920" y="139680"/>
              <a:ext cx="711504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2352600" y="380880"/>
              <a:ext cx="6791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ปฏิทินปฏิบัติงานการสอบทางการศึกษาระดับชาติ ด้านอาชีวศึกษา 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V-N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สถาบันทดสอบทางการศึกษาแห่งชาติ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องค์การมหาชน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) (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สทศ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.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ตาราง 17" descr=""/>
          <p:cNvPicPr/>
          <p:nvPr/>
        </p:nvPicPr>
        <p:blipFill>
          <a:blip r:embed="rId5"/>
          <a:stretch/>
        </p:blipFill>
        <p:spPr>
          <a:xfrm>
            <a:off x="353880" y="1146240"/>
            <a:ext cx="8734680" cy="2163600"/>
          </a:xfrm>
          <a:prstGeom prst="rect">
            <a:avLst/>
          </a:prstGeom>
          <a:ln w="0">
            <a:noFill/>
          </a:ln>
        </p:spPr>
      </p:pic>
      <p:pic>
        <p:nvPicPr>
          <p:cNvPr id="142" name="สี่เหลี่ยมผืนผ้า 19" descr=""/>
          <p:cNvPicPr/>
          <p:nvPr/>
        </p:nvPicPr>
        <p:blipFill>
          <a:blip r:embed="rId6"/>
          <a:stretch/>
        </p:blipFill>
        <p:spPr>
          <a:xfrm>
            <a:off x="938160" y="3425760"/>
            <a:ext cx="2554200" cy="1060560"/>
          </a:xfrm>
          <a:prstGeom prst="rect">
            <a:avLst/>
          </a:prstGeom>
          <a:ln w="0">
            <a:noFill/>
          </a:ln>
        </p:spPr>
      </p:pic>
      <p:grpSp>
        <p:nvGrpSpPr>
          <p:cNvPr id="143" name="สี่เหลี่ยมผืนผ้า 20"/>
          <p:cNvGrpSpPr/>
          <p:nvPr/>
        </p:nvGrpSpPr>
        <p:grpSpPr>
          <a:xfrm>
            <a:off x="2908440" y="4048200"/>
            <a:ext cx="6510240" cy="1633320"/>
            <a:chOff x="2908440" y="4048200"/>
            <a:chExt cx="6510240" cy="1633320"/>
          </a:xfrm>
        </p:grpSpPr>
        <p:pic>
          <p:nvPicPr>
            <p:cNvPr id="144" name="สี่เหลี่ยมผืนผ้า 20" descr=""/>
            <p:cNvPicPr/>
            <p:nvPr/>
          </p:nvPicPr>
          <p:blipFill>
            <a:blip r:embed="rId7"/>
            <a:stretch/>
          </p:blipFill>
          <p:spPr>
            <a:xfrm>
              <a:off x="2908440" y="4048200"/>
              <a:ext cx="6510240" cy="16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048120" y="4295880"/>
              <a:ext cx="586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www.niets.or.th</a:t>
              </a:r>
              <a:r>
                <a:rPr b="1" lang="en-US" sz="3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 </a:t>
              </a:r>
              <a:r>
                <a:rPr b="1" lang="th-TH" sz="3600" spc="-1" strike="noStrike">
                  <a:solidFill>
                    <a:srgbClr val="000000"/>
                  </a:solidFill>
                  <a:latin typeface="TH SarabunPSK"/>
                  <a:cs typeface="TH SarabunPSK"/>
                </a:rPr>
                <a:t>โดยเข้าเมนู</a:t>
              </a:r>
              <a:r>
                <a:rPr b="1" lang="en-US" sz="36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TH SarabunPSK"/>
                  <a:ea typeface="TH SarabunPSK"/>
                </a:rPr>
                <a:t>V-NE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ลูกศรโค้ง 21"/>
          <p:cNvGrpSpPr/>
          <p:nvPr/>
        </p:nvGrpSpPr>
        <p:grpSpPr>
          <a:xfrm>
            <a:off x="3492360" y="3578400"/>
            <a:ext cx="755640" cy="738000"/>
            <a:chOff x="3492360" y="3578400"/>
            <a:chExt cx="755640" cy="738000"/>
          </a:xfrm>
        </p:grpSpPr>
        <p:pic>
          <p:nvPicPr>
            <p:cNvPr id="147" name="ลูกศรโค้ง 21" descr=""/>
            <p:cNvPicPr/>
            <p:nvPr/>
          </p:nvPicPr>
          <p:blipFill>
            <a:blip r:embed="rId8"/>
            <a:stretch/>
          </p:blipFill>
          <p:spPr>
            <a:xfrm>
              <a:off x="3492360" y="3578400"/>
              <a:ext cx="75564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5400000">
              <a:off x="3590280" y="3628800"/>
              <a:ext cx="619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à¸£à¸¹à¸à¸ à¸²à¸à¸à¸µà¹à¹à¸à¸µà¹à¸¢à¸§à¸à¹à¸­à¸"/>
          <p:cNvPicPr/>
          <p:nvPr/>
        </p:nvPicPr>
        <p:blipFill>
          <a:blip r:embed="rId1"/>
          <a:stretch/>
        </p:blipFill>
        <p:spPr>
          <a:xfrm>
            <a:off x="6480" y="4280040"/>
            <a:ext cx="1304640" cy="1699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2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51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3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52" name="สี่เหลี่ยมผืนผ้า 3"/>
          <p:cNvGrpSpPr/>
          <p:nvPr/>
        </p:nvGrpSpPr>
        <p:grpSpPr>
          <a:xfrm>
            <a:off x="3133800" y="128520"/>
            <a:ext cx="6327720" cy="1249560"/>
            <a:chOff x="3133800" y="128520"/>
            <a:chExt cx="6327720" cy="1249560"/>
          </a:xfrm>
        </p:grpSpPr>
        <p:pic>
          <p:nvPicPr>
            <p:cNvPr id="153" name="สี่เหลี่ยมผืนผ้า 3" descr=""/>
            <p:cNvPicPr/>
            <p:nvPr/>
          </p:nvPicPr>
          <p:blipFill>
            <a:blip r:embed="rId4"/>
            <a:stretch/>
          </p:blipFill>
          <p:spPr>
            <a:xfrm>
              <a:off x="3133800" y="128520"/>
              <a:ext cx="632772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162240" y="371520"/>
              <a:ext cx="5981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ารางสอบการทดสอบ 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V-N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ระดับ ปวช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.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๓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ปีการศึกษา ๒๕๖๑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บบทดสอบจำนวน ๒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ชุด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ตาราง 1" descr=""/>
          <p:cNvPicPr/>
          <p:nvPr/>
        </p:nvPicPr>
        <p:blipFill>
          <a:blip r:embed="rId5"/>
          <a:stretch/>
        </p:blipFill>
        <p:spPr>
          <a:xfrm>
            <a:off x="334800" y="1096920"/>
            <a:ext cx="8730000" cy="3243240"/>
          </a:xfrm>
          <a:prstGeom prst="rect">
            <a:avLst/>
          </a:prstGeom>
          <a:ln w="0">
            <a:noFill/>
          </a:ln>
        </p:spPr>
      </p:pic>
      <p:grpSp>
        <p:nvGrpSpPr>
          <p:cNvPr id="156" name="สี่เหลี่ยมผืนผ้า 11"/>
          <p:cNvGrpSpPr/>
          <p:nvPr/>
        </p:nvGrpSpPr>
        <p:grpSpPr>
          <a:xfrm>
            <a:off x="2378160" y="4363920"/>
            <a:ext cx="7167600" cy="1195560"/>
            <a:chOff x="2378160" y="4363920"/>
            <a:chExt cx="7167600" cy="1195560"/>
          </a:xfrm>
        </p:grpSpPr>
        <p:pic>
          <p:nvPicPr>
            <p:cNvPr id="157" name="สี่เหลี่ยมผืนผ้า 11" descr=""/>
            <p:cNvPicPr/>
            <p:nvPr/>
          </p:nvPicPr>
          <p:blipFill>
            <a:blip r:embed="rId6"/>
            <a:stretch/>
          </p:blipFill>
          <p:spPr>
            <a:xfrm>
              <a:off x="2378160" y="4363920"/>
              <a:ext cx="71676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419200" y="4524480"/>
              <a:ext cx="6610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dobe Devanagari"/>
                  <a:cs typeface="TH SarabunPSK"/>
                </a:rPr>
                <a:t>สถานศึกษาดูผลได้ตั้งแต่ วันที่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27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cs typeface="TH SarabunIT๙"/>
                </a:rPr>
                <a:t>กุมภาพันธ์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2562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Adobe Devanagari"/>
                  <a:cs typeface="TH SarabunPSK"/>
                </a:rPr>
                <a:t>ที่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Devanagari"/>
                  <a:ea typeface="Adobe Devanaga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dobe Devanagari"/>
                  <a:ea typeface="Adobe Devanagari"/>
                </a:rPr>
                <a:t>www.niets.or.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ดาว 6 แฉก 12" descr=""/>
          <p:cNvPicPr/>
          <p:nvPr/>
        </p:nvPicPr>
        <p:blipFill>
          <a:blip r:embed="rId7"/>
          <a:stretch/>
        </p:blipFill>
        <p:spPr>
          <a:xfrm>
            <a:off x="1828800" y="4479840"/>
            <a:ext cx="8413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à¸£à¸¹à¸à¸ à¸²à¸à¸à¸µà¹à¹à¸à¸µà¹à¸¢à¸§à¸à¹à¸­à¸"/>
          <p:cNvPicPr/>
          <p:nvPr/>
        </p:nvPicPr>
        <p:blipFill>
          <a:blip r:embed="rId1"/>
          <a:stretch/>
        </p:blipFill>
        <p:spPr>
          <a:xfrm>
            <a:off x="6480" y="4280040"/>
            <a:ext cx="1304640" cy="1699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2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2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3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63" name="สี่เหลี่ยมผืนผ้า 3"/>
          <p:cNvGrpSpPr/>
          <p:nvPr/>
        </p:nvGrpSpPr>
        <p:grpSpPr>
          <a:xfrm>
            <a:off x="3133800" y="128520"/>
            <a:ext cx="6327720" cy="1249560"/>
            <a:chOff x="3133800" y="128520"/>
            <a:chExt cx="6327720" cy="1249560"/>
          </a:xfrm>
        </p:grpSpPr>
        <p:pic>
          <p:nvPicPr>
            <p:cNvPr id="164" name="สี่เหลี่ยมผืนผ้า 3" descr=""/>
            <p:cNvPicPr/>
            <p:nvPr/>
          </p:nvPicPr>
          <p:blipFill>
            <a:blip r:embed="rId4"/>
            <a:stretch/>
          </p:blipFill>
          <p:spPr>
            <a:xfrm>
              <a:off x="3133800" y="128520"/>
              <a:ext cx="632772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162240" y="371520"/>
              <a:ext cx="5981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ารางสอบการทดสอบ 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V-NE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ระดับ ปวส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.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๒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ปีการศึกษา ๒๕๖๑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แบบทดสอบจำนวน ๒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ชุด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)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ตาราง 1" descr=""/>
          <p:cNvPicPr/>
          <p:nvPr/>
        </p:nvPicPr>
        <p:blipFill>
          <a:blip r:embed="rId5"/>
          <a:stretch/>
        </p:blipFill>
        <p:spPr>
          <a:xfrm>
            <a:off x="324000" y="1096920"/>
            <a:ext cx="8832600" cy="3243240"/>
          </a:xfrm>
          <a:prstGeom prst="rect">
            <a:avLst/>
          </a:prstGeom>
          <a:ln w="0">
            <a:noFill/>
          </a:ln>
        </p:spPr>
      </p:pic>
      <p:grpSp>
        <p:nvGrpSpPr>
          <p:cNvPr id="167" name="สี่เหลี่ยมผืนผ้า 8"/>
          <p:cNvGrpSpPr/>
          <p:nvPr/>
        </p:nvGrpSpPr>
        <p:grpSpPr>
          <a:xfrm>
            <a:off x="2378160" y="4363920"/>
            <a:ext cx="7167600" cy="1195560"/>
            <a:chOff x="2378160" y="4363920"/>
            <a:chExt cx="7167600" cy="1195560"/>
          </a:xfrm>
        </p:grpSpPr>
        <p:pic>
          <p:nvPicPr>
            <p:cNvPr id="168" name="สี่เหลี่ยมผืนผ้า 8" descr=""/>
            <p:cNvPicPr/>
            <p:nvPr/>
          </p:nvPicPr>
          <p:blipFill>
            <a:blip r:embed="rId6"/>
            <a:stretch/>
          </p:blipFill>
          <p:spPr>
            <a:xfrm>
              <a:off x="2378160" y="4363920"/>
              <a:ext cx="716760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2419200" y="4524480"/>
              <a:ext cx="6610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dobe Devanagari"/>
                  <a:cs typeface="TH SarabunPSK"/>
                </a:rPr>
                <a:t>สถานศึกษาดูผลได้ตั้งแต่ วันที่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27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cs typeface="TH SarabunIT๙"/>
                </a:rPr>
                <a:t>กุมภาพันธ์ </a:t>
              </a:r>
              <a:r>
                <a:rPr b="1" lang="th-TH" sz="24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2562</a:t>
              </a:r>
              <a:r>
                <a:rPr b="1" lang="th-TH" sz="2000" spc="-1" strike="noStrike">
                  <a:solidFill>
                    <a:srgbClr val="000000"/>
                  </a:solidFill>
                  <a:latin typeface="TH SarabunIT๙"/>
                  <a:ea typeface="TH SarabunIT๙"/>
                </a:rPr>
                <a:t> </a:t>
              </a:r>
              <a:r>
                <a:rPr b="1" lang="th-TH" sz="2000" spc="-1" strike="noStrike">
                  <a:solidFill>
                    <a:srgbClr val="000000"/>
                  </a:solidFill>
                  <a:latin typeface="Adobe Devanagari"/>
                  <a:cs typeface="TH SarabunPSK"/>
                </a:rPr>
                <a:t>ที่</a:t>
              </a:r>
              <a:r>
                <a:rPr b="1" lang="en-US" sz="2400" spc="-1" strike="noStrike">
                  <a:solidFill>
                    <a:srgbClr val="000000"/>
                  </a:solidFill>
                  <a:latin typeface="Adobe Devanagari"/>
                  <a:ea typeface="Adobe Devanagari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dobe Devanagari"/>
                  <a:ea typeface="Adobe Devanagari"/>
                </a:rPr>
                <a:t>www.niets.or.t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ดาว 6 แฉก 9" descr=""/>
          <p:cNvPicPr/>
          <p:nvPr/>
        </p:nvPicPr>
        <p:blipFill>
          <a:blip r:embed="rId7"/>
          <a:stretch/>
        </p:blipFill>
        <p:spPr>
          <a:xfrm>
            <a:off x="1828800" y="4479840"/>
            <a:ext cx="8413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1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2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2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73" name="สี่เหลี่ยมผืนผ้า 3"/>
          <p:cNvGrpSpPr/>
          <p:nvPr/>
        </p:nvGrpSpPr>
        <p:grpSpPr>
          <a:xfrm>
            <a:off x="3133800" y="128520"/>
            <a:ext cx="6334200" cy="1249560"/>
            <a:chOff x="3133800" y="128520"/>
            <a:chExt cx="6334200" cy="1249560"/>
          </a:xfrm>
        </p:grpSpPr>
        <p:pic>
          <p:nvPicPr>
            <p:cNvPr id="174" name="สี่เหลี่ยมผืนผ้า 3" descr=""/>
            <p:cNvPicPr/>
            <p:nvPr/>
          </p:nvPicPr>
          <p:blipFill>
            <a:blip r:embed="rId3"/>
            <a:stretch/>
          </p:blipFill>
          <p:spPr>
            <a:xfrm>
              <a:off x="3133800" y="128520"/>
              <a:ext cx="63342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3162240" y="371520"/>
              <a:ext cx="5981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ารางรายละเอียดแบบทดสอบทางการศึกษาระดับชาต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ด้านอาชีวศึกษา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V-NET)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ระดับ ปวช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ตาราง 2" descr=""/>
          <p:cNvPicPr/>
          <p:nvPr/>
        </p:nvPicPr>
        <p:blipFill>
          <a:blip r:embed="rId4"/>
          <a:stretch/>
        </p:blipFill>
        <p:spPr>
          <a:xfrm>
            <a:off x="66600" y="1268280"/>
            <a:ext cx="898056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1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8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2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79" name="สี่เหลี่ยมผืนผ้า 3"/>
          <p:cNvGrpSpPr/>
          <p:nvPr/>
        </p:nvGrpSpPr>
        <p:grpSpPr>
          <a:xfrm>
            <a:off x="3133800" y="128520"/>
            <a:ext cx="6327720" cy="1249560"/>
            <a:chOff x="3133800" y="128520"/>
            <a:chExt cx="6327720" cy="1249560"/>
          </a:xfrm>
        </p:grpSpPr>
        <p:pic>
          <p:nvPicPr>
            <p:cNvPr id="180" name="สี่เหลี่ยมผืนผ้า 3" descr=""/>
            <p:cNvPicPr/>
            <p:nvPr/>
          </p:nvPicPr>
          <p:blipFill>
            <a:blip r:embed="rId3"/>
            <a:stretch/>
          </p:blipFill>
          <p:spPr>
            <a:xfrm>
              <a:off x="3133800" y="128520"/>
              <a:ext cx="632772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162240" y="371520"/>
              <a:ext cx="5981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ตารางรายละเอียดแบบทดสอบทางการศึกษาระดับชาต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ด้านอาชีวศึกษา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V-NET) 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ระดับ ปวส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.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ตาราง 5" descr=""/>
          <p:cNvPicPr/>
          <p:nvPr/>
        </p:nvPicPr>
        <p:blipFill>
          <a:blip r:embed="rId4"/>
          <a:stretch/>
        </p:blipFill>
        <p:spPr>
          <a:xfrm>
            <a:off x="55440" y="1133640"/>
            <a:ext cx="908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1"/>
          <a:srcRect l="19880" t="20076" r="0" b="26358"/>
          <a:stretch/>
        </p:blipFill>
        <p:spPr>
          <a:xfrm>
            <a:off x="6676920" y="7920"/>
            <a:ext cx="2476440" cy="32400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4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2"/>
          <a:stretch/>
        </p:blipFill>
        <p:spPr>
          <a:xfrm>
            <a:off x="6297480" y="7920"/>
            <a:ext cx="379440" cy="37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185" name="สี่เหลี่ยมผืนผ้า 3"/>
          <p:cNvGrpSpPr/>
          <p:nvPr/>
        </p:nvGrpSpPr>
        <p:grpSpPr>
          <a:xfrm>
            <a:off x="3133800" y="128520"/>
            <a:ext cx="6400800" cy="1249560"/>
            <a:chOff x="3133800" y="128520"/>
            <a:chExt cx="6400800" cy="1249560"/>
          </a:xfrm>
        </p:grpSpPr>
        <p:pic>
          <p:nvPicPr>
            <p:cNvPr id="186" name="สี่เหลี่ยมผืนผ้า 3" descr=""/>
            <p:cNvPicPr/>
            <p:nvPr/>
          </p:nvPicPr>
          <p:blipFill>
            <a:blip r:embed="rId3"/>
            <a:stretch/>
          </p:blipFill>
          <p:spPr>
            <a:xfrm>
              <a:off x="3133800" y="128520"/>
              <a:ext cx="640080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162240" y="371520"/>
              <a:ext cx="59817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cs typeface="TH SarabunPSK"/>
                </a:rPr>
                <a:t>เนื้อหาและจำนวนข้อของการทดสอบทางการศึกษาระดับชาติ ด้านอาชีวศึกษา </a:t>
              </a:r>
              <a:r>
                <a:rPr b="1" lang="en-US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(V-NET)</a:t>
              </a:r>
              <a:r>
                <a:rPr b="1" lang="th-TH" sz="2600" spc="-1" strike="noStrike">
                  <a:solidFill>
                    <a:srgbClr val="ffffff"/>
                  </a:solidFill>
                  <a:latin typeface="TH SarabunPSK"/>
                  <a:ea typeface="TH SarabunPSK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สี่เหลี่ยมผืนผ้า 1"/>
          <p:cNvSpPr/>
          <p:nvPr/>
        </p:nvSpPr>
        <p:spPr>
          <a:xfrm>
            <a:off x="1492200" y="1330200"/>
            <a:ext cx="6481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niets.or.th/th/catalog/view/2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รูปภาพ 8" descr=""/>
          <p:cNvPicPr/>
          <p:nvPr/>
        </p:nvPicPr>
        <p:blipFill>
          <a:blip r:embed="rId5"/>
          <a:stretch/>
        </p:blipFill>
        <p:spPr>
          <a:xfrm>
            <a:off x="1133640" y="1968480"/>
            <a:ext cx="68580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à¹à¸§à¹à¸à¹à¸à¸à¹à¸ªà¸³à¸à¸±à¸à¸à¸²à¸à¸à¸à¸°à¸à¸£à¸£à¸¡à¸à¸²à¸£à¸à¸²à¸£à¸­à¸²à¸à¸µà¸§à¸¨à¸¶à¸à¸©à¸²"/>
          <p:cNvPicPr/>
          <p:nvPr/>
        </p:nvPicPr>
        <p:blipFill>
          <a:blip r:embed="rId1"/>
          <a:srcRect l="19880" t="20076" r="0" b="26358"/>
          <a:stretch/>
        </p:blipFill>
        <p:spPr>
          <a:xfrm>
            <a:off x="5843520" y="138240"/>
            <a:ext cx="3300480" cy="43164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91" name="Picture 4" descr="https://sites.google.com/a/lbcat.ac.th/www-lbcat-ac-th/_/rsrc/1446088769986/logo-sxs-wsth-lphburi/%E0%B8%95%E0%B8%A3%E0%B8%B2%E0%B8%A8%E0%B8%AD%E0%B8%AA.gif?height=199&amp;width=200"/>
          <p:cNvPicPr/>
          <p:nvPr/>
        </p:nvPicPr>
        <p:blipFill>
          <a:blip r:embed="rId2"/>
          <a:stretch/>
        </p:blipFill>
        <p:spPr>
          <a:xfrm>
            <a:off x="5464080" y="169920"/>
            <a:ext cx="406440" cy="404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Picture 2" descr="à¸à¸¥à¸à¸²à¸£à¸à¹à¸à¸«à¸²à¸£à¸¹à¸à¸ à¸²à¸à¸ªà¸³à¸«à¸£à¸±à¸ thank you"/>
          <p:cNvPicPr/>
          <p:nvPr/>
        </p:nvPicPr>
        <p:blipFill>
          <a:blip r:embed="rId3"/>
          <a:stretch/>
        </p:blipFill>
        <p:spPr>
          <a:xfrm>
            <a:off x="2901960" y="2517840"/>
            <a:ext cx="4595760" cy="2597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à¸£à¸¹à¸à¸ à¸²à¸à¸à¸µà¹à¹à¸à¸µà¹à¸¢à¸§à¸à¹à¸­à¸"/>
          <p:cNvPicPr/>
          <p:nvPr/>
        </p:nvPicPr>
        <p:blipFill>
          <a:blip r:embed="rId4"/>
          <a:stretch/>
        </p:blipFill>
        <p:spPr>
          <a:xfrm>
            <a:off x="6480" y="4280040"/>
            <a:ext cx="130464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8-12-19T01:50:02Z</dcterms:modified>
  <cp:revision>25</cp:revision>
  <dc:subject/>
  <dc:title>การเตรียมการสอบ V-NET  ปีการศึกษา ๒๕๖๑</dc:title>
</cp:coreProperties>
</file>